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77E-4C67-42EB-9082-05948C25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CD2-792D-4110-9A6C-F72BFE3E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B84-F0C5-4180-B0C3-8353B216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984-6164-4B62-A0CA-BC2689CE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401-B79D-4679-98DE-4FA79835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B26-ECBC-470F-91AE-8A9F5F6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AA2-2F32-449F-B6AE-C07D0EC6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E62-87AD-4C5F-9A53-F757BA82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531-38D6-48E1-9EA7-6113E808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55F-E275-4566-BFC0-3B501EBD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C89-3B0D-4F3F-973A-FCCF326F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0E0-0088-45E3-B257-A9DE4FB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C866-B59C-4A72-9083-7CE26DDBB8D5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CP메인로고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3048120" cy="4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447920"/>
            <a:ext cx="9144000" cy="2286000"/>
          </a:xfrm>
          <a:prstGeom prst="rect">
            <a:avLst/>
          </a:prstGeom>
          <a:gradFill rotWithShape="0">
            <a:gsLst>
              <a:gs pos="0">
                <a:srgbClr val="b1cfcf"/>
              </a:gs>
              <a:gs pos="50000">
                <a:srgbClr val="006666"/>
              </a:gs>
              <a:gs pos="100000">
                <a:srgbClr val="b1cfcf"/>
              </a:gs>
            </a:gsLst>
            <a:lin ang="5400000"/>
          </a:gradFill>
          <a:ln w="63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HY그래픽M"/>
              </a:rPr>
              <a:t>KCP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HY그래픽M"/>
              </a:rPr>
              <a:t>정산페이지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KCP메인로고" descr=""/>
          <p:cNvPicPr/>
          <p:nvPr/>
        </p:nvPicPr>
        <p:blipFill>
          <a:blip r:embed="rId1"/>
          <a:stretch/>
        </p:blipFill>
        <p:spPr>
          <a:xfrm>
            <a:off x="7315200" y="655308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35760" y="679320"/>
            <a:ext cx="14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-3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정산관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개별정산보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660960" y="3854520"/>
            <a:ext cx="150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-4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정산관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부가세신고자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2514600"/>
            <a:ext cx="6167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각 결제수단별 해당정산일의 정산내역을 세부적으로 확인하실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정산일자’는 입금되는 날짜이며 차감금액을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취소금액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매입반송금액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취소반송금액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/PG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수수료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/PG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부가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차감정산금액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제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금액이 ‘지급액’에 표기됩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정산일자를 클릭하면 ‘매입마감내역조회’ 창으로 이동합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880920" y="604836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부가세신고를 위한 매출자료를 월별로 조회하실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98480" y="990720"/>
          <a:ext cx="727884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8480" y="990720"/>
                    <a:ext cx="7278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4083120"/>
          <a:ext cx="7696080" cy="19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4083120"/>
                    <a:ext cx="7696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28600"/>
            <a:ext cx="4267440" cy="380880"/>
          </a:xfrm>
          <a:prstGeom prst="rect">
            <a:avLst/>
          </a:prstGeom>
          <a:gradFill rotWithShape="0">
            <a:gsLst>
              <a:gs pos="0">
                <a:srgbClr val="90b8aa"/>
              </a:gs>
              <a:gs pos="100000">
                <a:srgbClr val="7b9d9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66d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돋움"/>
                <a:ea typeface="돋움"/>
              </a:rPr>
              <a:t>5. </a:t>
            </a:r>
            <a:r>
              <a:rPr b="1" lang="zh-CN" sz="1400" spc="-1" strike="noStrike">
                <a:solidFill>
                  <a:srgbClr val="010000"/>
                </a:solidFill>
                <a:latin typeface="돋움"/>
                <a:ea typeface="돋움"/>
              </a:rPr>
              <a:t>세금계산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KCP메인로고" descr=""/>
          <p:cNvPicPr/>
          <p:nvPr/>
        </p:nvPicPr>
        <p:blipFill>
          <a:blip r:embed="rId1"/>
          <a:stretch/>
        </p:blipFill>
        <p:spPr>
          <a:xfrm>
            <a:off x="7315200" y="655308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884160"/>
            <a:ext cx="7790040" cy="716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돋움"/>
                <a:ea typeface="돋움"/>
              </a:rPr>
              <a:t>전자세금계산서는 전자적으로 세금계산서를 무한 발행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zh-CN" sz="1100" spc="-1" strike="noStrike">
                <a:solidFill>
                  <a:srgbClr val="000000"/>
                </a:solidFill>
                <a:latin typeface="돋움"/>
                <a:ea typeface="돋움"/>
              </a:rPr>
              <a:t>접수 할 수 있는 서비스입니다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돋움"/>
                <a:ea typeface="돋움"/>
              </a:rPr>
              <a:t>현행 양식지 세금계산서를 대신하므로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zh-CN" sz="1100" spc="-1" strike="noStrike">
                <a:solidFill>
                  <a:srgbClr val="000000"/>
                </a:solidFill>
                <a:latin typeface="돋움"/>
                <a:ea typeface="돋움"/>
              </a:rPr>
              <a:t>거래 사업체 대상 또는 일반고객 대상으로 전자세금계산서를 발부합니다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41360" y="1676520"/>
            <a:ext cx="824544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8080"/>
                </a:solidFill>
                <a:latin typeface="굴림"/>
              </a:rPr>
              <a:t>▶ </a:t>
            </a:r>
            <a:r>
              <a:rPr b="1" lang="ko-KR" sz="1000" spc="-1" strike="noStrike">
                <a:solidFill>
                  <a:srgbClr val="008080"/>
                </a:solidFill>
                <a:latin typeface="굴림"/>
              </a:rPr>
              <a:t>KCP</a:t>
            </a:r>
            <a:r>
              <a:rPr b="1" lang="ko-KR" sz="1000" spc="-1" strike="noStrike">
                <a:solidFill>
                  <a:srgbClr val="008080"/>
                </a:solidFill>
                <a:latin typeface="굴림"/>
              </a:rPr>
              <a:t>에서 전송한 전자세금계산서 확인은 이렇게 하세요</a:t>
            </a:r>
            <a:r>
              <a:rPr b="1" lang="ko-KR" sz="1000" spc="-1" strike="noStrike">
                <a:solidFill>
                  <a:srgbClr val="00808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ⓐ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KCP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에서는 매월초에 전월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PG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수수료에 대해 세금계산서를 메일로 전송해드리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확인 및 출력은 정산페이지 ‘세금계산서’에서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이용하시면 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정산페이지에 ‘세금계산서’를 클릭하면 아래화면처럼 오늘의 세금계산서 현황을 보여드리며 해당 계산서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클릭하면 각 서비스 창으로 이동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ⓑ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수신대기 계산서 클릭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계산서번호 클릭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수신승인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or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반송처리를 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수신승인한 세금계산서는 세금계산서접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접수완료세금계산서에서 확인할 수 있으며 반송처리한 계산서는 반송한 세금계산서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조회하실 수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ⓒ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금계산서 인쇄는 수신승인 시 인쇄창이 자동으로 열리므로 이 때 출력하거나 별도로 출력을 할 경우에는 접수완료세금계산서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쇄하실 수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819520" y="4876920"/>
          <a:ext cx="220968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4876920"/>
                    <a:ext cx="22096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38080" y="3352680"/>
          <a:ext cx="2610000" cy="119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352680"/>
                    <a:ext cx="261000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524400" y="3352680"/>
          <a:ext cx="4876560" cy="1447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24400" y="3352680"/>
                    <a:ext cx="48765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238720" y="4952880"/>
          <a:ext cx="3143160" cy="144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8720" y="4952880"/>
                    <a:ext cx="3143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838080" y="4648320"/>
          <a:ext cx="1752840" cy="1981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8080" y="4648320"/>
                    <a:ext cx="1752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990720" y="3657600"/>
            <a:ext cx="9144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4343400"/>
            <a:ext cx="8380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5181480"/>
            <a:ext cx="838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5638680"/>
            <a:ext cx="6094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1148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7242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28840" y="5410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590920" y="54100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KCP메인로고" descr=""/>
          <p:cNvPicPr/>
          <p:nvPr/>
        </p:nvPicPr>
        <p:blipFill>
          <a:blip r:embed="rId1"/>
          <a:stretch/>
        </p:blipFill>
        <p:spPr>
          <a:xfrm>
            <a:off x="7315200" y="640080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61320" y="609480"/>
            <a:ext cx="149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5-1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기초정보관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처관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741960" y="3352680"/>
            <a:ext cx="176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5-2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세금계산서발행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세금계산서 작성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362320"/>
            <a:ext cx="739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금계산서를 자주 발행하는 거래처정보를 한번 등록하면 계산서 작성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발행 시 편리하게 사용하실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처명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담당자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사업자등록번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전체 검색이 가능하며 수정 및 삭제도 가능합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657600"/>
            <a:ext cx="4419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금계산서를 작성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발행하는 메뉴입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금계산서의 양식과 동일하게 구현되어 손쉽게 작성할 수 있으며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공급받는자의 조회버튼을 클릭하면 거래처관리에 등록 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업체정보를 불러올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계산서 작성 후 저장 및 확인을 누르면 발행페이지로 이동하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상대방의 이메일로 계산서를 보낼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62120" y="914400"/>
          <a:ext cx="548640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914400"/>
                    <a:ext cx="54864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400800" y="838080"/>
          <a:ext cx="198108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838080"/>
                    <a:ext cx="1981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133720" y="1523880"/>
            <a:ext cx="43434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62120" y="3657600"/>
          <a:ext cx="3733560" cy="220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120" y="3657600"/>
                    <a:ext cx="3733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KCP메인로고" descr=""/>
          <p:cNvPicPr/>
          <p:nvPr/>
        </p:nvPicPr>
        <p:blipFill>
          <a:blip r:embed="rId1"/>
          <a:stretch/>
        </p:blipFill>
        <p:spPr>
          <a:xfrm>
            <a:off x="7315200" y="640080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97400" y="679320"/>
            <a:ext cx="19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5-3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세금계산서발행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전체 세금계산서 현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950040" y="3505320"/>
            <a:ext cx="26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5-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금계산서발행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미발행세금계산서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/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발행한 세금계산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530360" y="2603520"/>
            <a:ext cx="539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발행한 전체 세금계산서의 현황을 다양한 조건으로 검색하여 확인하실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발행 후 통지하지 못한 세금계산서는 해당건의 상태를 클릭하면 ‘세금계산서 상세보기’ 페이지로 이동하며 ‘세금계산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상세보기’에서 메일로 통지할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585440" y="5486400"/>
            <a:ext cx="606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미발행 세금계산서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금계산서를 작성하고 거래처에는 발행하지 않은 계산서를 보여주며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내용 수정 및 계산서 발행이 가능합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발행한 세금계산서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발행된 세금계산서 현황을 보여주며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상태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미수신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미통지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및 거래처 요청에 따라 재통지 및 폐기처분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가능하며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금계산서 인쇄기능이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39880" y="914400"/>
          <a:ext cx="71611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914400"/>
                    <a:ext cx="71611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98480" y="3733920"/>
          <a:ext cx="682164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8480" y="3733920"/>
                    <a:ext cx="6821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KCP메인로고" descr=""/>
          <p:cNvPicPr/>
          <p:nvPr/>
        </p:nvPicPr>
        <p:blipFill>
          <a:blip r:embed="rId1"/>
          <a:stretch/>
        </p:blipFill>
        <p:spPr>
          <a:xfrm>
            <a:off x="7315200" y="640080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21760" y="679320"/>
            <a:ext cx="33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5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세금계산서발행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승인된 세금계산서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반송된 세금계산서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폐기한 세금계산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761040" y="3809880"/>
            <a:ext cx="18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-6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금계산서발행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기발행세금계산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499040" y="2743200"/>
            <a:ext cx="579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승인된 세금계산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세금계산서를 승인한 거래처를 확인 하실 수 있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반송된 세금계산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거래처가 반송한 계산서를 조회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반송한 세금계산서는 반드시 폐기하신 후 재발행 하셔야 합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폐기한 세금계산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폐기한 세금계산서를 조회하실 수 있습니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5381640" y="408312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발행세금계산서는 온라인을 통하지않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오프라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우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통해 발행한 세금계산서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입력하는 화면으로 레포트의 매출처별합계표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매출로 포함됩니다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93720" y="914400"/>
          <a:ext cx="73836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" y="914400"/>
                    <a:ext cx="7383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62120" y="4062240"/>
          <a:ext cx="4548240" cy="233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4062240"/>
                    <a:ext cx="454824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KCP메인로고" descr=""/>
          <p:cNvPicPr/>
          <p:nvPr/>
        </p:nvPicPr>
        <p:blipFill>
          <a:blip r:embed="rId1"/>
          <a:stretch/>
        </p:blipFill>
        <p:spPr>
          <a:xfrm>
            <a:off x="7315200" y="640080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161000" y="679320"/>
            <a:ext cx="352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7.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세금계산서접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접수할 세금계산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접수완료세금계산서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반송한 세금계산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835920" y="3200400"/>
            <a:ext cx="203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-8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세금계산서접수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기접수 세금계산서입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1522440" y="1523880"/>
            <a:ext cx="6060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접수할 세금계산서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: KCP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또는 거래처로부터 본 시스템을 이용하여 발행 받은 세금계산서를 검색할 수 있으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내용 확인 하신 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수신승인 또는 반송할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접수완료세금계산서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한 계산서를 조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인쇄 할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회사명은 공급자 의 회사명으로 검색하시거나 비워두시고 검색하시기 바랍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반송한 세금계산서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: KCP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또는 거래처에 반송 처리한 세금계산서를 조회하실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213520" y="3429000"/>
            <a:ext cx="3267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접수세금계산서는 업체로부터 온라인을 통하지 않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오프라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우편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통해 발행 받으신 매입세금계산서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입력하는 화면으로 레포트의 매입처별합계표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매입으로 포함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2120" y="3514680"/>
          <a:ext cx="4343400" cy="273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514680"/>
                    <a:ext cx="43434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62120" y="990720"/>
          <a:ext cx="609588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990720"/>
                    <a:ext cx="6095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KCP메인로고" descr=""/>
          <p:cNvPicPr/>
          <p:nvPr/>
        </p:nvPicPr>
        <p:blipFill>
          <a:blip r:embed="rId1"/>
          <a:stretch/>
        </p:blipFill>
        <p:spPr>
          <a:xfrm>
            <a:off x="7315200" y="640080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9880" y="679320"/>
            <a:ext cx="172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-9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래포트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매출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매입처별 합계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525240" y="3124080"/>
            <a:ext cx="91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5-10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감올리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1458720" y="1600200"/>
            <a:ext cx="569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쇼핑몰에서 거래처로 발행한 매출세금계산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발행세금계산서 포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KCP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또는 거래처로부터 수신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매입세금계산서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기접수세금계산서 포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날짜별로 조회할 수 있으며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검색조건 ‘날짜’에 해당기간을 입력하고 검색하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해당기간 총 매입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*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출을 업체별로 산출하여 보여드립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) ‘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매출처별합계작성표’를 클릭 후 인쇄하시면 세무서제출용으로도 사용하실 수 있습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68160" y="914400"/>
          <a:ext cx="763776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8160" y="914400"/>
                    <a:ext cx="7637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795240" y="3429000"/>
          <a:ext cx="53006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5240" y="3429000"/>
                    <a:ext cx="5300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265040" y="4495680"/>
            <a:ext cx="4617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등록된 인감은 세금계산서에 인감으로 사용됩니다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인감올리는 법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①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인감을 흰종이에 선명하게 날인합니다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.</a:t>
            </a:r>
            <a:br>
              <a:rPr sz="1000"/>
            </a:b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                    ②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크기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=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가로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*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세로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: 58 * 58 pixel,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해상도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= 72dpi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로 스캔합니다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.</a:t>
            </a:r>
            <a:br>
              <a:rPr sz="1000"/>
            </a:b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                    ③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그래픽 프로그램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(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포토샵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,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페인트샵프로 등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)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에서 스캔 받은 파일을 불러옵니다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.</a:t>
            </a:r>
            <a:br>
              <a:rPr sz="1000"/>
            </a:b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                    ④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바탕화면을 투명으로 작업하신 후 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gif file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로 저장합니다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.</a:t>
            </a:r>
            <a:br>
              <a:rPr sz="1000"/>
            </a:b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                         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바탕화면을 투명으로 해야 세금계산서에 도장이 제대로 찍힙니다</a:t>
            </a:r>
            <a:r>
              <a:rPr b="0" lang="ko-KR" sz="1000" spc="-1" strike="noStrike">
                <a:solidFill>
                  <a:srgbClr val="107f1a"/>
                </a:solidFill>
                <a:latin typeface="Seoul"/>
              </a:rPr>
              <a:t>.</a:t>
            </a:r>
            <a:r>
              <a:rPr b="0" lang="ko-KR" sz="1000" spc="-1" strike="noStrike">
                <a:solidFill>
                  <a:srgbClr val="393939"/>
                </a:solidFill>
                <a:latin typeface="Seou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6520" y="1828800"/>
            <a:ext cx="5715000" cy="6094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808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4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  <a:ea typeface="돋움체"/>
              </a:rPr>
              <a:t>2. </a:t>
            </a:r>
            <a:r>
              <a:rPr b="1" lang="zh-CN" sz="1600" spc="-1" strike="noStrike">
                <a:solidFill>
                  <a:srgbClr val="5f5f5f"/>
                </a:solidFill>
                <a:latin typeface="Times New Roman"/>
                <a:ea typeface="돋움체"/>
              </a:rPr>
              <a:t>정산페이지 서비스 메뉴구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914400"/>
            <a:ext cx="5715000" cy="6094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808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4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돋움"/>
                <a:ea typeface="돋움"/>
              </a:rPr>
              <a:t>1. </a:t>
            </a:r>
            <a:r>
              <a:rPr b="1" lang="zh-CN" sz="1600" spc="-1" strike="noStrike">
                <a:solidFill>
                  <a:srgbClr val="5f5f5f"/>
                </a:solidFill>
                <a:latin typeface="돋움"/>
                <a:ea typeface="돋움"/>
              </a:rPr>
              <a:t>정산페이지 개요</a:t>
            </a:r>
            <a:r>
              <a:rPr b="1" lang="en-US" sz="1600" spc="-1" strike="noStrike">
                <a:solidFill>
                  <a:srgbClr val="5f5f5f"/>
                </a:solidFill>
                <a:latin typeface="Times New Roman"/>
                <a:ea typeface="돋움체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743200"/>
            <a:ext cx="5715000" cy="6094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808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4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  <a:ea typeface="돋움체"/>
              </a:rPr>
              <a:t>3. </a:t>
            </a:r>
            <a:r>
              <a:rPr b="1" lang="zh-CN" sz="1600" spc="-1" strike="noStrike">
                <a:solidFill>
                  <a:srgbClr val="5f5f5f"/>
                </a:solidFill>
                <a:latin typeface="Times New Roman"/>
                <a:ea typeface="돋움체"/>
              </a:rPr>
              <a:t>결제관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657600"/>
            <a:ext cx="5715000" cy="6094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808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4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  <a:ea typeface="돋움체"/>
              </a:rPr>
              <a:t>4. </a:t>
            </a:r>
            <a:r>
              <a:rPr b="1" lang="zh-CN" sz="1600" spc="-1" strike="noStrike">
                <a:solidFill>
                  <a:srgbClr val="5f5f5f"/>
                </a:solidFill>
                <a:latin typeface="Times New Roman"/>
                <a:ea typeface="돋움체"/>
              </a:rPr>
              <a:t>정산관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572000"/>
            <a:ext cx="5715000" cy="6094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808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4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Times New Roman"/>
                <a:ea typeface="돋움체"/>
              </a:rPr>
              <a:t>5. </a:t>
            </a:r>
            <a:r>
              <a:rPr b="1" lang="zh-CN" sz="1600" spc="-1" strike="noStrike">
                <a:solidFill>
                  <a:srgbClr val="5f5f5f"/>
                </a:solidFill>
                <a:latin typeface="Times New Roman"/>
                <a:ea typeface="돋움체"/>
              </a:rPr>
              <a:t>세금계산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600" y="990720"/>
            <a:ext cx="8170920" cy="1066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정산관리페이지는 다양한 인터넷 결제서비스를 포함하여 인터넷 쇼핑몰의 매출 및 운영관리와 고객관리에 필요한 모든 서비스를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편리하고 안전하게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One-stop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으로 제공하는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e-Business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의 종합 솔루션입니다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쇼핑몰 운영자를 위한 서비스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URL(admin.kcp.co.kr)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에 접속하시면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로그인 창이 나오며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, 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쇼핑몰 별 지정된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ID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와 비밀번호로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로그인 합니다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32000"/>
            <a:ext cx="231840" cy="2318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9960" y="2205000"/>
            <a:ext cx="345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정산관리페이지 </a:t>
            </a:r>
            <a:r>
              <a:rPr b="1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admin.kcp.co.k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74720" y="2590920"/>
          <a:ext cx="746748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4720" y="2590920"/>
                    <a:ext cx="74674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04920"/>
            <a:ext cx="4267440" cy="380880"/>
          </a:xfrm>
          <a:prstGeom prst="rect">
            <a:avLst/>
          </a:prstGeom>
          <a:gradFill rotWithShape="0">
            <a:gsLst>
              <a:gs pos="0">
                <a:srgbClr val="90b8aa"/>
              </a:gs>
              <a:gs pos="100000">
                <a:srgbClr val="7b9d9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66d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돋움"/>
                <a:ea typeface="돋움"/>
              </a:rPr>
              <a:t>1. </a:t>
            </a:r>
            <a:r>
              <a:rPr b="1" lang="zh-CN" sz="1400" spc="-1" strike="noStrike">
                <a:solidFill>
                  <a:srgbClr val="010000"/>
                </a:solidFill>
                <a:latin typeface="돋움"/>
                <a:ea typeface="돋움"/>
              </a:rPr>
              <a:t>정산관리자페이지 개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KCP메인로고" descr=""/>
          <p:cNvPicPr/>
          <p:nvPr/>
        </p:nvPicPr>
        <p:blipFill>
          <a:blip r:embed="rId4"/>
          <a:stretch/>
        </p:blipFill>
        <p:spPr>
          <a:xfrm>
            <a:off x="7315200" y="6553080"/>
            <a:ext cx="16002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04880" y="4226040"/>
          <a:ext cx="112392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226040"/>
                    <a:ext cx="11239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9480" y="2286000"/>
          <a:ext cx="8153640" cy="18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286000"/>
                    <a:ext cx="81536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905120" y="4238640"/>
          <a:ext cx="1295280" cy="214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238640"/>
                    <a:ext cx="12952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477200" y="4267080"/>
          <a:ext cx="1285920" cy="212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77200" y="4267080"/>
                    <a:ext cx="128592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2280" y="228600"/>
            <a:ext cx="4267440" cy="380880"/>
          </a:xfrm>
          <a:prstGeom prst="rect">
            <a:avLst/>
          </a:prstGeom>
          <a:gradFill rotWithShape="0">
            <a:gsLst>
              <a:gs pos="0">
                <a:srgbClr val="90b8aa"/>
              </a:gs>
              <a:gs pos="100000">
                <a:srgbClr val="7b9d9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66d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돋움"/>
                <a:ea typeface="돋움"/>
              </a:rPr>
              <a:t>2. </a:t>
            </a:r>
            <a:r>
              <a:rPr b="1" lang="zh-CN" sz="1400" spc="-1" strike="noStrike">
                <a:solidFill>
                  <a:srgbClr val="010000"/>
                </a:solidFill>
                <a:latin typeface="돋움"/>
                <a:ea typeface="돋움"/>
              </a:rPr>
              <a:t>정산관리자페이지 서비스 메뉴구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76720" y="4267080"/>
          <a:ext cx="1295280" cy="21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267080"/>
                    <a:ext cx="129528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48320" y="4276800"/>
          <a:ext cx="1523880" cy="21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4276800"/>
                    <a:ext cx="15238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253200" y="4276800"/>
          <a:ext cx="1138320" cy="2124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53200" y="4276800"/>
                    <a:ext cx="113832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H="1">
            <a:off x="1599840" y="2743200"/>
            <a:ext cx="1143000" cy="1371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743200" y="2743200"/>
            <a:ext cx="914400" cy="1447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743200"/>
            <a:ext cx="380880" cy="1447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7432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274320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2743200"/>
            <a:ext cx="685800" cy="1447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KCP메인로고" descr=""/>
          <p:cNvPicPr/>
          <p:nvPr/>
        </p:nvPicPr>
        <p:blipFill>
          <a:blip r:embed="rId15"/>
          <a:stretch/>
        </p:blipFill>
        <p:spPr>
          <a:xfrm>
            <a:off x="7315200" y="655308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3600" y="914400"/>
            <a:ext cx="817092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최초 로그인 후에는 “쇼핑몰정보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-&gt;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비밀번호 변경” 을 선택하여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KCP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에서 발급한 비밀번호를 반드시 수정하시기 바랍니다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상단의 메뉴를 클릭하면 왼쪽사이드에 하단부의 그림과 같이 세부메뉴가 보이며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서비스이용 시에는 각 세부메뉴를 선택하시어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이용하시게 됩니다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Log-Out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버튼을 누르면 관리자 화면을 종료하실 수 있으며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자리를 비우실 때는 반드신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Log-Out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하시기 바랍니다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28600"/>
            <a:ext cx="4267440" cy="380880"/>
          </a:xfrm>
          <a:prstGeom prst="rect">
            <a:avLst/>
          </a:prstGeom>
          <a:gradFill rotWithShape="0">
            <a:gsLst>
              <a:gs pos="0">
                <a:srgbClr val="90b8aa"/>
              </a:gs>
              <a:gs pos="100000">
                <a:srgbClr val="7b9d9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66d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돋움"/>
                <a:ea typeface="돋움"/>
              </a:rPr>
              <a:t>3. </a:t>
            </a:r>
            <a:r>
              <a:rPr b="1" lang="zh-CN" sz="1400" spc="-1" strike="noStrike">
                <a:solidFill>
                  <a:srgbClr val="010000"/>
                </a:solidFill>
                <a:latin typeface="돋움"/>
                <a:ea typeface="돋움"/>
              </a:rPr>
              <a:t>결제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KCP메인로고" descr=""/>
          <p:cNvPicPr/>
          <p:nvPr/>
        </p:nvPicPr>
        <p:blipFill>
          <a:blip r:embed="rId1"/>
          <a:stretch/>
        </p:blipFill>
        <p:spPr>
          <a:xfrm>
            <a:off x="7315200" y="655308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884160"/>
            <a:ext cx="7790040" cy="716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돋움"/>
                <a:ea typeface="돋움"/>
              </a:rPr>
              <a:t>결제관리에서는 각 서비스별  승인내역조회 및 거래취소를 승인날짜별 상태별로 직접 조회하고 처리할 수 있는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돋움"/>
                <a:ea typeface="돋움"/>
              </a:rPr>
              <a:t>메뉴입니다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085400" y="1727280"/>
            <a:ext cx="31485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3-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카드자료관리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자료조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조회된 상세내역은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엑셀로 전환할 수 있으며 최대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000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건이 보여집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55560" y="2286000"/>
          <a:ext cx="551664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2286000"/>
                    <a:ext cx="5516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371600" y="3581280"/>
            <a:ext cx="1143000" cy="8384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2590920"/>
            <a:ext cx="8380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76920" y="4343400"/>
          <a:ext cx="3733560" cy="19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343400"/>
                    <a:ext cx="3733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324480" y="3124080"/>
          <a:ext cx="2286000" cy="106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3124080"/>
                    <a:ext cx="22860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523880" y="434340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648320"/>
            <a:ext cx="3809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주문번호를 클릭하면 해당 거래에 대한 상세내역 및 거래정보를 변경할 수 있는 ‘거래상세내역’ 화면으로 이동합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rot="3120000">
            <a:off x="6362280" y="2895480"/>
            <a:ext cx="761760" cy="228600"/>
          </a:xfrm>
          <a:custGeom>
            <a:avLst/>
            <a:gdLst>
              <a:gd name="textAreaLeft" fmla="*/ 133200 w 761760"/>
              <a:gd name="textAreaRight" fmla="*/ 552240 w 7617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rot="4440000">
            <a:off x="7009920" y="4114440"/>
            <a:ext cx="762120" cy="304920"/>
          </a:xfrm>
          <a:custGeom>
            <a:avLst/>
            <a:gdLst>
              <a:gd name="textAreaLeft" fmla="*/ 133200 w 762120"/>
              <a:gd name="textAreaRight" fmla="*/ 552600 w 7621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KCP메인로고" descr=""/>
          <p:cNvPicPr/>
          <p:nvPr/>
        </p:nvPicPr>
        <p:blipFill>
          <a:blip r:embed="rId1"/>
          <a:stretch/>
        </p:blipFill>
        <p:spPr>
          <a:xfrm>
            <a:off x="7315200" y="655308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1120" y="679320"/>
            <a:ext cx="208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-2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카드자료관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자료조회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상세내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984240"/>
          <a:ext cx="586728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84240"/>
                    <a:ext cx="5867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349280" y="4689360"/>
            <a:ext cx="5378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)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사이트정보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상품 거래가 이루어진 쇼핑몰의 간단한 정보를 알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정보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주문번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일자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번호 등 승인에 관련한 정보를 알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3)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상태정보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현황을 확인하실 수 있으며 매출전표를 출력할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쇼핑몰 운영자는 “변경요청” 화면에서 매입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취소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매입취소등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상태변경요청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을 할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4)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주문자정보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상품을 구입한 주문자의 정보를 확인하실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5)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History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 상태의 변경된 내역을 알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2660760"/>
            <a:ext cx="10666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212840"/>
          <a:ext cx="1905120" cy="342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1212840"/>
                    <a:ext cx="19051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09880" y="2813040"/>
            <a:ext cx="10670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09680" y="304164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867280" y="2964960"/>
            <a:ext cx="990720" cy="2514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KCP메인로고" descr=""/>
          <p:cNvPicPr/>
          <p:nvPr/>
        </p:nvPicPr>
        <p:blipFill>
          <a:blip r:embed="rId1"/>
          <a:stretch/>
        </p:blipFill>
        <p:spPr>
          <a:xfrm>
            <a:off x="7315200" y="655308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60040" y="679320"/>
            <a:ext cx="22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-3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카드자료관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매입내역조회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매입취소내역조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7240" y="990720"/>
          <a:ext cx="799956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990720"/>
                    <a:ext cx="7999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37280" y="3581280"/>
            <a:ext cx="17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-4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카드자료관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중복승인예상조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001160" y="2695680"/>
            <a:ext cx="387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매입요청 및 매입취소 후의 모든 자료의 거래 상태를 조회할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매입일자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매입취소일자로 조회하실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3886200"/>
          <a:ext cx="800100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3886200"/>
                    <a:ext cx="8001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259640" y="5727600"/>
            <a:ext cx="502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카드번호나 주문번호로 같은 날짜에 종복된 거래건을 조회하실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중복된 내역 확인을 통해 부정매출이나 소비자 실수에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중복승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대해 즉각적으로 응대할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KCP메인로고" descr=""/>
          <p:cNvPicPr/>
          <p:nvPr/>
        </p:nvPicPr>
        <p:blipFill>
          <a:blip r:embed="rId1"/>
          <a:stretch/>
        </p:blipFill>
        <p:spPr>
          <a:xfrm>
            <a:off x="7315200" y="655308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4920" y="679320"/>
            <a:ext cx="176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-5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카드자료관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&gt;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거절내역조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718560" y="3581280"/>
            <a:ext cx="185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3-6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카드자료관리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-&gt;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IP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재승인내역조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695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거절내역조회를 통해 승인거절 사유를 확인하실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거절일자와 검색 항목을 선택 및 입력 후 조회하시면 됩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517400" y="6080040"/>
            <a:ext cx="59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해당 승인일에 같은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IP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대역에서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회이상 결제난 내역을 확인함으로써 카드부정사용으로 인한 문제를 조기에 파악할 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5120" y="990720"/>
          <a:ext cx="8028000" cy="17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5120" y="990720"/>
                    <a:ext cx="80280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16040" y="3886200"/>
          <a:ext cx="812304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040" y="3886200"/>
                    <a:ext cx="8123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228600"/>
            <a:ext cx="4267440" cy="380880"/>
          </a:xfrm>
          <a:prstGeom prst="rect">
            <a:avLst/>
          </a:prstGeom>
          <a:gradFill rotWithShape="0">
            <a:gsLst>
              <a:gs pos="0">
                <a:srgbClr val="90b8aa"/>
              </a:gs>
              <a:gs pos="100000">
                <a:srgbClr val="7b9d9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566d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돋움"/>
                <a:ea typeface="돋움"/>
              </a:rPr>
              <a:t>4. </a:t>
            </a:r>
            <a:r>
              <a:rPr b="1" lang="zh-CN" sz="1400" spc="-1" strike="noStrike">
                <a:solidFill>
                  <a:srgbClr val="010000"/>
                </a:solidFill>
                <a:latin typeface="돋움"/>
                <a:ea typeface="돋움"/>
              </a:rPr>
              <a:t>정산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KCP메인로고" descr=""/>
          <p:cNvPicPr/>
          <p:nvPr/>
        </p:nvPicPr>
        <p:blipFill>
          <a:blip r:embed="rId1"/>
          <a:stretch/>
        </p:blipFill>
        <p:spPr>
          <a:xfrm>
            <a:off x="7315200" y="655308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884160"/>
            <a:ext cx="7790040" cy="716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돋움"/>
                <a:ea typeface="돋움"/>
              </a:rPr>
              <a:t>정산관리에서는 각 서비스별  결제내역을 정산일자에 맞춰 한 눈에 볼 수 있는 달력기능과 입금액에 대한 세부내용을 확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돋움"/>
                <a:ea typeface="돋움"/>
              </a:rPr>
              <a:t>할 수 있는 페이지입니다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zh-CN" sz="1100" spc="-1" strike="noStrike">
                <a:solidFill>
                  <a:srgbClr val="000000"/>
                </a:solidFill>
                <a:latin typeface="돋움"/>
                <a:ea typeface="돋움"/>
              </a:rPr>
              <a:t>부가세신고자료 또한 정산관리에서 월별로 조회하실 수 있습니다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86520" y="1676520"/>
            <a:ext cx="157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-1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정산관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정산금액지급달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930320"/>
          <a:ext cx="701028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30320"/>
                    <a:ext cx="701028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35760" y="4419720"/>
            <a:ext cx="14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-2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정산관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&gt; </a:t>
            </a:r>
            <a:r>
              <a:rPr b="1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통합정산보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4680000"/>
          <a:ext cx="7467480" cy="143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4680000"/>
                    <a:ext cx="74674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85800" y="3537000"/>
            <a:ext cx="739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해당월을 선택 후 조회하면 해당일자의 정산예정금액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or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정산금액을 확인할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표기된 금액에 마우스를 대면 결제수단별 정산금액을 먼저 간단히 확인할 수 있으며 정산금액을 클릭하면 상세지급정보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확인 할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959440"/>
            <a:ext cx="739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각 결제수단별 정산자료를 통합해서 조회하실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)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각 항목별 금액을 클릭하시면 개별정산내역조회 화면으로 갈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4:45:41Z</dcterms:created>
  <dc:creator>조해경</dc:creator>
  <dc:description/>
  <dc:language>en-US</dc:language>
  <cp:lastModifiedBy>박성원</cp:lastModifiedBy>
  <dcterms:modified xsi:type="dcterms:W3CDTF">2004-11-26T08:31:55Z</dcterms:modified>
  <cp:revision>44</cp:revision>
  <dc:subject/>
  <dc:title>PowerPoint 프레젠테이션</dc:title>
</cp:coreProperties>
</file>